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36C-ADF2-46C8-9E35-627DA199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61C-E238-4AC8-AFA6-C6E0D4A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BA831-E86F-4C47-AB0F-18F50588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40913-5B1F-4E70-ABF2-8DC7223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E61C1-5AC4-4AB8-B7A3-B907E84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CDF66-22F0-4223-AB61-88F05BA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8156D-4591-4D01-B3A5-3E70DF0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A5984-3C0B-45AD-A41E-9389907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59288-DAE6-4821-AEFA-DB7216CA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48992-A92A-4BBE-91C6-850467B3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9BBC-477F-4A09-9DC4-8FBA937D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C020A-2625-48E0-B3E5-17AB4FC8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CD1-7F18-49DD-8A84-3318237D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06600-0FB1-4CFD-9998-FC29D559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0B810-C016-4EA6-9486-B6051AC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9BBED-5254-4A32-9FCF-B5D1E22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3ABE5-BB8B-4DE6-85B1-2F7FE84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1755F-747D-4B58-8B3B-B9D890C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B9405-0685-4199-B439-DE0EA6F6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59946-6FAF-444E-8468-BB6694D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A430C-9413-413E-A3CC-9087F66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0435-FED1-41E9-9414-EB7A3FE3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994D4-A310-4456-A89A-5CC57CDA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B44-EBE0-4622-ABB2-018E1351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E00EB-B34F-4C12-A31D-0FF0216D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6038-1DC4-4AE2-BF53-E75A0C33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7B37B-88B9-4DCD-951E-5A70502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2F60E-3945-424A-9B95-FC2547F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86984-DA30-4878-84FB-37D6869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4E9A2-1B3D-4E5D-BA30-D1922933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72B23-BE3B-4366-B616-DB0DEE5C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9F7C5-A3D3-4792-817F-921799D3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4CB4A-7DA1-414F-8558-A83BBB5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76AC7-D638-425D-91B7-DBEE4C5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3F7F-A88E-42C2-861A-960C6FDA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10A1C-CB99-46BB-8420-7149EC2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2D17C-3A29-45C1-AC63-60F8B69E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328AD-8618-431F-AB10-DEA5164E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AFFEF-7B27-4AB8-88D9-37DD7ABF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0C527-8FDF-4D5F-BDEC-DFDE7D75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4C7DE-C040-4CD4-B305-95DFF8C9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D00F2-1D86-4516-BE6A-9F35C1B8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F35FE-A2B2-486E-82F5-23301922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64111-EDFA-4E57-A888-AB877E70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46068-B660-4AB3-AFA5-EDD862B5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724D-0051-4D58-9133-8E3CC5E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280A6-275D-4567-BB1E-0710D4C7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83C31-2036-4702-ACC7-44F766A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B7BC-8412-4BF7-84BD-ED1C0C1D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CDB59-1334-452F-909F-A87E6577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B5F6D-8CD0-4202-8E63-7359F5CB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0596-328E-4749-A825-C4D552A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75BE-AF07-4ECA-9BE0-006DB155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957F-FBB7-43EE-AED5-E4E00F42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5490-B757-42C9-B0BD-592C7255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D5DB-2B3B-412E-933C-43F32DC4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0DA-A954-434B-A05F-22579CC4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431D-C671-4F1F-8918-BBA8CBC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FDDE-C404-45D5-9C3E-B6A2FDC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A01A-98A2-4C7F-A7CA-3409836D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72B8-5744-44E5-A4B9-D16CF55B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A13F-25A0-46F1-AC1C-1AB27FB8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47EB-7B3F-4C8C-A1DB-B0E1C9A6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F097-B25E-4582-8E23-3ECACC97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8347-783E-4FDC-877A-BD403676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BE82-25D6-4B86-AE58-4D6CFBBB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6BE3-5DD3-4C90-BF88-A944F44E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589-84E2-4917-9CE4-B9713F72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7A8E-AE06-40DE-97D8-53B1D33D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E099-3639-4D50-9E95-34BEF2C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BD16-1ED1-4730-B022-77CFC64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D0D8-B66F-427A-9E91-3E9D98D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4A71-5652-4E51-8B45-EA50C489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8041-3551-44CD-8312-342849DA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A863-F312-448D-B1E9-E1766EEF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6BCBA-DEA6-46D1-8252-16603EAE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24D9-4375-4C7B-B403-2F55FF8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55E1-4AD7-4178-88D8-D9FBFD85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D0A-8244-4B37-BD0C-B38339D7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FF78-38A0-4209-ADF0-E0077038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3CF6-AA4A-47C2-8FC8-DA04862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C0C7-F0B9-42E5-9637-092ADB71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7E6E-F45F-4E2F-9440-A90FCC2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562D-F211-4837-9F36-60C7B3A7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7C11-D903-4B38-A465-FB7F354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1931-887A-4A1B-AAA8-953B2DD0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4ED5-4E77-4393-BF92-1B88996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79E7-5417-4794-BDC8-09F1E8C4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E027C-08E1-4E1D-971E-878DA539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5B1-4074-471A-AF3E-7B19742E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BF47-54D5-4B9C-BF99-AB908C1D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CD25C-C600-4B15-9897-10B074C7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A04D-228F-4717-A48F-1D4A164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1B6F-667F-4D94-84EC-34DC038C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F886B-7398-480E-AB1C-247B1239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28AC3-892A-4FD5-96FB-6DDDCD2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29861-B59C-4CB9-B390-EF5342A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76A9-7061-49AC-91A5-C71623D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C8D8-2E3C-4261-BD7E-E56747F1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05346-C148-4156-B185-36CA6C2A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18F-B64C-4E8D-8ED5-C206B45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4C0F4-D5AD-451C-94B3-81A76888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33A1A-1183-4848-83EA-4551BCEB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C043-24D3-4D7E-AF58-6DEC2E41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ED954-8224-45A3-B5A0-7983BEA2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7312F-9299-4074-8BB3-20C7649D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FF1A-F6DE-4008-956E-47D0823C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4CBE-756B-40D5-873F-530978F2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142C-D728-4125-A635-E0E71D7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F5A3-DA65-4B87-8CCD-906D9B21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FCA81-E71C-4C91-8A21-2DC62A42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E7F-77FA-4A43-AE17-C3A77731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C23DB-860C-439D-B200-F1DB9F3E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59C34-9597-451F-87E9-3D4CB6E7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15E0-F935-43E4-AD62-96AE9883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CF4AA-428D-4AE8-9569-4D3B071E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7CB77-4A25-4961-98A9-96F1FD6B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5C6DD-99BB-46A7-9A7D-FCBEF77D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10EB-DFFD-439C-861B-17151F3B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29FB4-183B-4C58-8FC0-C0F0E46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CB6A-24E6-49A0-BF76-181A94B7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BBF0-2ADA-4617-80B1-98007B5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E13-FADB-4AE3-8586-D60CF87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86826-9518-4B05-BADC-0508011A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0D49-2C84-4CCC-9712-7976D10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A2FDF-74A5-474B-9EF0-BFF3D618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C554-A1CE-4F28-B3C2-6C8D75FA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CC62-639C-411F-AB81-2CFC8834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BC812-28CD-4726-B438-02C809E9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4752D-B7EA-4175-965E-D163DBB6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7C43C-E6C8-4424-8BF3-BAE6583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468F-FB60-441B-95D4-8E8F07C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890FD-09A8-4393-9676-BDB8350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475-E713-4EFA-83AA-6BEA0837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8897C-D33F-44D2-BB61-58DF831F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1FC6-ED08-4D71-A343-BBF008F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60FA-D8DE-4B88-AD35-5223DE7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13BCB-6EB1-4728-BBDD-F2DCAEC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B1ED1-319A-4C9E-989F-62DC1B5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85C1E-E1AF-45FC-BF0A-7A0B796B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9AEC3-5FA8-4A0D-A94D-4C5B7ADC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BBF4E-4A01-45FB-A4C7-A5034ED7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E7E25-7129-44CE-91AE-765662B9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95F9A-E3BE-4240-AA64-E649322E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AC20-A076-4CD3-B723-84149B6B63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4A5C-7070-4ED5-AD12-DBF14FE35B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CC5-B759-4157-BC28-07F2E8DED3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19B6-0B73-4A4F-A010-5BB0747B05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357D-5EA9-4B62-AE3F-507E02FCD2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7BCB-3120-424D-97A2-7451DA4DFD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217-EB8B-40B6-873F-D16B440A97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C4DE-CFF8-49FD-A573-E621C767F24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96CF-645E-4B46-B669-5DEF9C78D5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6FA6-C92E-46FF-9A52-C8ABBC8B8B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1D6-3C46-4A20-BA6C-97C7C3A899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4AE-33B0-424C-B446-E867BFF05B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6 Hviezdy sa skryli za mra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viezdy sa skryli za mra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vieti ani jedi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pasiteľ náš, sám len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ťažký zápas začí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čelo krvou zros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ú strašnú n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 nebdie s n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priatelia aj blízko s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 všetci spia tam zomdl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útok zloby vrcho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pomoc Otec prichádz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tmavú anjel ožiar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silu nachádz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aránok Boží nevin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znáša bremä našich vín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ás tu zvádza krutý b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a nás trpí Boží Sy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5T08:57:48Z</dcterms:modified>
  <cp:revision>33</cp:revision>
  <dc:subject/>
  <dc:title>Je veľký náš Pán, on slávy je Kráľ Nech do všetkých strán  spev vrúcnych znie chvál.</dc:title>
</cp:coreProperties>
</file>